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04656"/>
        <c:axId val="35092872"/>
      </c:barChart>
      <c:catAx>
        <c:axId val="40704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92872"/>
        <c:crosses val="autoZero"/>
        <c:auto val="1"/>
        <c:lblAlgn val="ctr"/>
        <c:lblOffset val="100"/>
        <c:noMultiLvlLbl val="0"/>
      </c:catAx>
      <c:valAx>
        <c:axId val="35092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04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277-A6F0-411D-80D6-06EE0E42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060-60A9-45BC-B6FD-586007D0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D75-D6B8-40AE-AEF4-C869FE19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979-FBCC-48B0-81E1-3213A997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379-87DE-455C-992D-AF1D6AA4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492-1125-4411-970F-6158E408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13F-3AAD-4A62-A3C4-75BD0830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895-003E-4B4C-97E1-49EEB85A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565-EBF6-4348-BF52-906CEE21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E82-D9C8-4AEB-AAFE-492704B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28B-56D3-4BB2-A586-E6D2982A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BF6-2EFD-4794-9759-DDB6FE0B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3356A-EE80-4A04-9D25-A94F988FCE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